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C8E3-91CB-47BB-A318-907645246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3AB7-789A-47B9-AF9C-34B52BFC7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55F7-0F47-4B0C-AB90-358D35088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E8A9-DC65-4ACD-9BFE-5616C8F96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2041-32A4-452D-92C9-018563F78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5B4D-4FE1-4C27-9EA8-AB9B6E27F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C181-708D-4E97-88F1-4EF5C4BD3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69CA-BCA5-4D75-BECC-C1C8BD969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0E81-40B2-4B9B-AF47-55CFA1489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2BBB-AF2C-432F-99A0-FEC442A7A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27FB-E9BA-4E9C-946C-6A27874DA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289A-08F7-4F56-B746-80AAB1EC7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17A7-4AD5-4B60-9111-681581347A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3FD5-F509-4EED-9A97-ED4BEE4D48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1045-53CD-41DC-A1DA-FBBDFD901C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F591-03F5-460B-A620-C13E7834AA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82E-C332-4D21-9E2A-FE672E017F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009-2ECF-4611-B09B-807B397CE4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540-387B-434E-B3CC-AA84C8A31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F1B3-FA71-4102-9AA1-9CF8347FBC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A2D9-C03E-45C5-9A04-2469D40E64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31AE-CF8F-42E2-AEDB-D9F5D8577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3C1-BD3B-4B71-AD72-7EDDC3CD05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7A4-5996-410C-BD0C-D54525ACB0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847-34A3-4B7D-9E9C-AF3069C229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4F68-F813-45B7-9B59-2B5BB5D536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019-AD24-4A20-A26A-B6542F8C9A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058D-4354-470E-A77C-5134B80D53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1BB0-5C65-44C0-9EBF-332964F14E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345-4EA6-4502-84E2-73934E60C5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7645-2E99-4A13-8AA8-53BB34E2C8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B43-9E2E-4FBF-B649-23362EE457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DD06-6ABC-49C3-8BE9-9819D52A6E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C1C2-946A-40AB-AB38-7E7C69F29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DCC7-09CE-4FC9-B262-393B4CDE60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23A5-9123-406F-A451-DB89696D7C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5T03:04:20Z</dcterms:modified>
  <cp:revision>38</cp:revision>
  <dc:subject/>
  <dc:title>&lt;Title&gt;</dc:title>
</cp:coreProperties>
</file>